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783B-B8BA-4D78-B83D-6AE8F041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C505-E038-490B-9000-E29CBAA7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C9F-7635-4387-8315-A07306C5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80AA-0F13-4526-8F52-14584C0C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1C2D-8002-4934-B3F0-F38498B1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927B-8A82-4F43-9293-DDD87F89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13F4-88F0-41A9-B010-1F1D7FFA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C2E0-7649-44F3-8ED3-9A673E41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10D5-52CE-4CEC-9583-AD7E38ED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3475-E6B2-4FE5-9CA8-6C12AD17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864F-BA25-4C55-A15D-930362FC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089-6387-46EB-8821-056F7717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F121-ED72-4CB8-97D5-654BEDB9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2794-A132-4678-9DE9-4B293B03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ACB3-E761-4061-82C1-826E578F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8F9B-2C0A-441A-B631-3BE426F4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C3EA-20BF-4D60-BF55-E69001DD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6A31-E48C-43D1-96A4-13A33926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B66-FD9A-4086-8767-CD00AA73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C3CF-AACC-4B95-BF13-5C5309EF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F41-83F1-4E0D-834B-0EDDB298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ED4-EB5E-49CD-89A9-EA002826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8AB5-E3DD-451E-92E1-1C465E94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A4B-AD52-4128-AB67-1DD8D9DD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4858-ECB7-4B5E-9F5E-8D5453E00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B9B6-912F-42C4-B133-71C60E81AE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amily Structures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n the Caribbea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frican-Caribbean Famil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Approximately 80 to 90 percent of families in the Caribbean are from an African backgr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greatest effect on cul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Absent fa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Grandmother-dominated househo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Marriage and Divo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000" spc="-1" strike="noStrike">
                <a:solidFill>
                  <a:srgbClr val="ffffff"/>
                </a:solidFill>
                <a:latin typeface="Arial"/>
              </a:rPr>
              <a:t>Child-shifting,</a:t>
            </a: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 where children are sent to live with relatives because the parents have migrated or have started a family with another spo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Four kinds of relationships within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ffffff"/>
                </a:solidFill>
                <a:latin typeface="Arial"/>
              </a:rPr>
              <a:t>marital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ffffff"/>
                </a:solidFill>
                <a:latin typeface="Arial"/>
              </a:rPr>
              <a:t>common-law union</a:t>
            </a: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 (the parents live together, but are not legally marri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ffffff"/>
                </a:solidFill>
                <a:latin typeface="Arial"/>
              </a:rPr>
              <a:t>visiting union</a:t>
            </a: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 (the mother still lives in the parents' hom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1800" spc="-1" strike="noStrike">
                <a:solidFill>
                  <a:srgbClr val="ffffff"/>
                </a:solidFill>
                <a:latin typeface="Arial"/>
              </a:rPr>
              <a:t>the single parent fami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mother raises children alo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inese-Caribbean Famil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y to keep much of the traditions and customs of Ch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ecially try to preserve their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often identify with the areas in China from which they came, and keep close associations with people from ar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education for all their children, but sons are still favo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mily problems usually kept private and only talked about within the family/household. Not a lot of emotional expression, public demonstrations of love are r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inese families appear more stabl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y true to Chinese family structure and tradition of rather introverted family lif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inese families will sometimes migrate to areas where other Chinese families are, isolated from oth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tra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families may change religions, they still practice Buddhist traditions like lighting incense and, sometimes, keep Buddhist shrines in the hom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use/trust herbal medicine as opposed to moder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still often perceived by many as higher class families because of their lighter skin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dian-Caribbean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mil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Arial"/>
              </a:rPr>
              <a:t>Roles of Family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Father – head of family, authority figure, provider. Final disiplianarian and decisionmak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Mother – caretaker, household chores.  Major role of women is to get married and contribute to the famil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Women are seen as inferior to men (traditional Hindu perspect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Children - bring honor to their families through achievements and good behavi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Valued traits in chilren - conformity, generational interdependence, obligation, and sha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Children are seen as products of their parents hard work. One of the primary goals of marriage in Hindu families is to have childre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Children must take care of their parents when they grow old (traditional Indian wa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ffffff"/>
                </a:solidFill>
                <a:latin typeface="Arial"/>
              </a:rPr>
              <a:t>Girls groomed for marriage from childho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generations live in same ho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le of women starting to impr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Arial"/>
              </a:rPr>
              <a:t>More women are going to high school and universities, and hold prestigious job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20:55Z</dcterms:created>
  <dc:creator>Gigi Watson</dc:creator>
  <dc:description/>
  <dc:language>en-US</dc:language>
  <cp:lastModifiedBy>Gigi Watson</cp:lastModifiedBy>
  <dcterms:modified xsi:type="dcterms:W3CDTF">2007-05-23T22:10:02Z</dcterms:modified>
  <cp:revision>19</cp:revision>
  <dc:subject/>
  <dc:title>Family Structures  in the Caribbean</dc:title>
</cp:coreProperties>
</file>